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404-D626-44A2-86D4-E895CDA7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3BE-4ED9-458E-A59F-6766329F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B8B-1314-42A1-AEF8-4DECDCBE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281-CBF4-4B63-8EDA-04B7975B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D444-ACD0-4188-9C2F-EB74D5F0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4665-300F-4363-9835-710C87BA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FEEB-FB6C-4D07-862D-1635D2A9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4C17-BB1A-4B6D-A72E-605A1F06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FEA-0B67-40B1-AE8F-B72B7CF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D3EC-B10E-4B15-B3AE-EC4BC0EE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FFA0-22F0-4F24-8BBF-129585B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36D-C45C-43CD-AB88-05211858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5D8C-E206-48E1-BDAE-E244BBB9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6308-A331-4633-B1E5-612B933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55FA-A4C5-4EBF-9323-35333079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5C3-236F-4654-8819-B8648167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1AF9-7BFC-4595-89A9-E9820A78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FF45E-8A82-4E81-807F-240EE834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4754-D899-4713-A322-E2DCA125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8BEF-2443-4E08-B057-D534B48D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EF9A6-2EB8-403D-A4E8-43C787D1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32E4-7E97-4D4F-996E-4F6831B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53D-28F6-4FC3-9D0F-C7032BF1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BFC0-C2BC-4FD1-862E-AB480AEE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D562-B1D1-4244-ACFA-73CCEBB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B608-A6D6-41E3-A299-3808347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A8C5-29EE-4D1D-924D-411A613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CC70F-9416-419E-BDDE-FEBCFE5A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C060-E4AD-4C9C-920E-43CE95A3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6AB5-6EA9-47BF-BAB5-0147DDB8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A137-5A51-4EB0-91B2-CE4BCA82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2E93-3C33-4772-B64F-4C38786A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874F-2FA7-4D53-919C-1086839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72C-313A-4E1F-9280-3453C2FA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5C7C3-2FDA-4F15-A780-9079308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C3D9-A1AE-4E58-992C-8F728B01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0EB6-D1FF-40CC-9A10-95AE636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1519-D507-419B-B268-EEE390C0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6BA9-8C66-478F-8045-7BF45FC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712B-43F6-4899-83B2-6DC3E5E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EE70-9603-4A82-80E3-C4F37B2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21DE-8714-4088-B30E-0561CC54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88161-EFC6-4A37-8039-EB4BAD8D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C7108-B3F3-4B34-A70F-64487EAF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533-C932-41BD-801E-F601C373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11007-5D06-43D2-8711-2BEA31D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D8167-2327-4324-8C6D-FC5EF32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93DC4-990F-4427-9BB9-1FEC6A09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6F62-AFC5-44B4-B36C-03DFCC7B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EC22-28AD-4647-83DA-4A4B1114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6D17F-08FB-49F9-94D8-5BCFB7B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8647-E807-49B9-9481-9FC4FA76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63C8-6D9B-4D67-870C-66595B8C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C71B-457E-49F9-9C4A-252D3CF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4096D-B2A0-49ED-8E3E-08799274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E08-E246-44A2-8017-DB3A148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3A6B-A4E4-4A39-811B-A4CD5169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9E6BE-3A5A-450C-9BE4-3A957B87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7089-5C73-426E-B221-99201A0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A390-FAAC-4E37-9EFA-C6FC698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69E7-A3A2-4048-B770-E3C5E01D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89AD-D0AE-4D51-BB51-3211770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D95F-97A7-40C0-A351-9879EC5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8B162-7B78-445C-ADD3-24DBD94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59E9E-5A7C-4192-8096-D76C641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4858E-CCBC-4AEB-B334-1800764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F0C-705F-47EE-BFFD-F295BAF0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03930-F6C0-40D3-947B-DB99841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7560-A789-4D38-ADCF-B9759DA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D54C-97A5-4EB0-BCB4-CBB7FD50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4CFB-AF47-415C-BE76-9792FE5D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56D05-F8C9-4E7B-88F6-104069D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65A2A-BCF1-4725-BB4D-6B31843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6B33-D454-4365-9BD4-DB9393B7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12C40-E494-4388-BAC8-CF40DADE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1A761-709D-4C1A-B72B-E5ABEA02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2F626-F0B3-45A6-96B7-20DCE25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230-3D6A-4309-88EB-5DA24AED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CB82-FF7D-419C-8905-2748735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4D96-F68D-4816-85C2-2FE0C20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6634-4AC5-4F4F-BE1C-9E600D8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3C05-08D8-4D70-BAE8-DA3D67C6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AD29F-8929-4D18-A53A-E94C2474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70130-AD9F-4663-8678-F193FC75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BC85A-55C6-4047-B1E8-1715F05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680A-9BBF-427B-9B5A-26549CDF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D6FA4-E384-45B2-8CF0-C89AC0AE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2BF21-A21A-42CF-B46D-1511EC37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802-D891-4249-9F0E-F937A3B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F1B0-BCB5-40A3-9382-E8367B39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EF0A-A5D6-4600-BB98-5AB61D6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4E37-45FC-4A96-893D-D2722D1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D0911-C674-4E19-A840-249CE9C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9EB6B-8822-44F9-8E25-9F6F3484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C719B-18E8-4FF5-B2D0-6CAD832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8FDE-469E-40B8-87C7-A3981840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CF6-1F90-42FC-87BC-37F350733B15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82A-E519-4DB7-AD3B-9E316CE11402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A687-9C42-4D4D-8C98-6DA0028EE741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ebf0ec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ebf0ec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D2A5-924E-4762-9732-675C0E20F680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FE9B-4E11-4C9E-B640-1E73B44FDF14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7E21-48AC-4F9A-BDC4-F21DE2B8D0E9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864-414D-44CE-AA68-3F50DE0F0526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C2EA-94A6-4E13-BC90-7F29D73443E6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AFD-525C-4EED-9371-8F745CCFB011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C42-F6C5-4AEC-8D09-E138A876E90B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105A-5632-4D0A-912B-7061D661E5FA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7163-DFCF-4310-98F6-C0783F16CFAE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0B40-74FE-4C2F-A31B-EA9FC2E62391}" type="datetime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B386-36AE-43D2-BBCE-E59901063CBB}" type="slidenum">
              <a:rPr b="0" lang="es-MX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D2AA-5D3F-4D76-AB22-2C2D55C11B24}" type="datetime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Saltillo, Coahuila  04 de Diciembre 201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ECBB-3C75-4693-9CE1-719090C38F50}" type="slidenum">
              <a:rPr b="0" lang="es-MX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371" name="1 Título" descr=""/>
          <p:cNvPicPr/>
          <p:nvPr/>
        </p:nvPicPr>
        <p:blipFill>
          <a:blip r:embed="rId2"/>
          <a:stretch/>
        </p:blipFill>
        <p:spPr>
          <a:xfrm>
            <a:off x="603360" y="2414520"/>
            <a:ext cx="7785000" cy="1749600"/>
          </a:xfrm>
          <a:prstGeom prst="rect">
            <a:avLst/>
          </a:prstGeom>
          <a:ln w="0">
            <a:noFill/>
          </a:ln>
        </p:spPr>
      </p:pic>
      <p:sp>
        <p:nvSpPr>
          <p:cNvPr id="372" name="4 Marcador de pie de página"/>
          <p:cNvSpPr/>
          <p:nvPr/>
        </p:nvSpPr>
        <p:spPr>
          <a:xfrm>
            <a:off x="3635280" y="5732640"/>
            <a:ext cx="505296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Saltillo, Coahuila , 30 de Enero 201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n 33" descr=""/>
          <p:cNvPicPr/>
          <p:nvPr/>
        </p:nvPicPr>
        <p:blipFill>
          <a:blip r:embed="rId3"/>
          <a:srcRect l="0" t="0" r="58705" b="0"/>
          <a:stretch/>
        </p:blipFill>
        <p:spPr>
          <a:xfrm>
            <a:off x="250920" y="333360"/>
            <a:ext cx="2965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0" y="189000"/>
            <a:ext cx="2965320" cy="1655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551640" y="5084640"/>
            <a:ext cx="2592360" cy="1616040"/>
          </a:xfrm>
          <a:prstGeom prst="rect">
            <a:avLst/>
          </a:prstGeom>
          <a:ln w="0">
            <a:noFill/>
          </a:ln>
        </p:spPr>
      </p:pic>
      <p:pic>
        <p:nvPicPr>
          <p:cNvPr id="376" name="1 Título" descr=""/>
          <p:cNvPicPr/>
          <p:nvPr/>
        </p:nvPicPr>
        <p:blipFill>
          <a:blip r:embed="rId3"/>
          <a:stretch/>
        </p:blipFill>
        <p:spPr>
          <a:xfrm>
            <a:off x="249120" y="1768320"/>
            <a:ext cx="8639280" cy="1810080"/>
          </a:xfrm>
          <a:prstGeom prst="rect">
            <a:avLst/>
          </a:prstGeom>
          <a:ln w="0">
            <a:noFill/>
          </a:ln>
        </p:spPr>
      </p:pic>
      <p:sp>
        <p:nvSpPr>
          <p:cNvPr id="377" name="3 CuadroTexto"/>
          <p:cNvSpPr/>
          <p:nvPr/>
        </p:nvSpPr>
        <p:spPr>
          <a:xfrm>
            <a:off x="611280" y="382752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Lucida Sans Unicode"/>
              </a:rPr>
              <a:t>Objetivo:  Contar con un programa de educación ambiental para concientizar y sensibilizar a estudiantes sobre la contaminación del aire y sus impactos a la salud y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948360" y="4724280"/>
            <a:ext cx="1944720" cy="1338480"/>
          </a:xfrm>
          <a:prstGeom prst="rect">
            <a:avLst/>
          </a:prstGeom>
          <a:ln w="0">
            <a:noFill/>
          </a:ln>
        </p:spPr>
      </p:pic>
      <p:sp>
        <p:nvSpPr>
          <p:cNvPr id="379" name="2 CuadroTexto"/>
          <p:cNvSpPr/>
          <p:nvPr/>
        </p:nvSpPr>
        <p:spPr>
          <a:xfrm>
            <a:off x="395280" y="2421000"/>
            <a:ext cx="8497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enerar convenios entre el sector educativo, de salud, organizaciones no gubernamentales y ambientales. (20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convenios entre los distintos sectores para definir el grupo de trabajo que establecerá el contenido del material didáctico a integrar en los diferentes niveles edu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Imagen 33" descr=""/>
          <p:cNvPicPr/>
          <p:nvPr/>
        </p:nvPicPr>
        <p:blipFill>
          <a:blip r:embed="rId2"/>
          <a:srcRect l="0" t="0" r="58705" b="0"/>
          <a:stretch/>
        </p:blipFill>
        <p:spPr>
          <a:xfrm>
            <a:off x="166680" y="189000"/>
            <a:ext cx="2965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324000" y="404640"/>
            <a:ext cx="2965320" cy="1656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732720" y="5300640"/>
            <a:ext cx="1942920" cy="1338120"/>
          </a:xfrm>
          <a:prstGeom prst="rect">
            <a:avLst/>
          </a:prstGeom>
          <a:ln w="0">
            <a:noFill/>
          </a:ln>
        </p:spPr>
      </p:pic>
      <p:sp>
        <p:nvSpPr>
          <p:cNvPr id="383" name="2 CuadroTexto"/>
          <p:cNvSpPr/>
          <p:nvPr/>
        </p:nvSpPr>
        <p:spPr>
          <a:xfrm>
            <a:off x="395280" y="242100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 Crear grupo de trabajo multidisciplinario.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ormar grupo de trabajo que defina el alcance del programa de educación ambiental en el tema de calidad del aire, así como los tiempos y estrategia para la implementación del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Resultado de imagen para logotipo proaire"/>
          <p:cNvPicPr/>
          <p:nvPr/>
        </p:nvPicPr>
        <p:blipFill>
          <a:blip r:embed="rId1"/>
          <a:stretch/>
        </p:blipFill>
        <p:spPr>
          <a:xfrm>
            <a:off x="6804000" y="4941720"/>
            <a:ext cx="2046240" cy="1400400"/>
          </a:xfrm>
          <a:prstGeom prst="rect">
            <a:avLst/>
          </a:prstGeom>
          <a:ln w="0">
            <a:noFill/>
          </a:ln>
        </p:spPr>
      </p:pic>
      <p:sp>
        <p:nvSpPr>
          <p:cNvPr id="385" name="2 CuadroTexto"/>
          <p:cNvSpPr/>
          <p:nvPr/>
        </p:nvSpPr>
        <p:spPr>
          <a:xfrm>
            <a:off x="611280" y="2128680"/>
            <a:ext cx="77770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 Diseñar el material didáctico en el tema de calidad del aire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eñar el material didáctico en el tema de la calidad del acorde a los niveles educativ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Imagen 33" descr=""/>
          <p:cNvPicPr/>
          <p:nvPr/>
        </p:nvPicPr>
        <p:blipFill>
          <a:blip r:embed="rId2"/>
          <a:srcRect l="0" t="0" r="58705" b="0"/>
          <a:stretch/>
        </p:blipFill>
        <p:spPr>
          <a:xfrm>
            <a:off x="250920" y="260280"/>
            <a:ext cx="25797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2 CuadroTexto"/>
          <p:cNvSpPr/>
          <p:nvPr/>
        </p:nvSpPr>
        <p:spPr>
          <a:xfrm>
            <a:off x="539640" y="2133720"/>
            <a:ext cx="77774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 Diseñar e implementar un programa de educación ambiental en el tema de la calidad del aire y sus impactos a la salud. (20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grar el tema de calidad del aire en el programa de educación ambiental diseñado a todos los niveles edu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Imagen 33" descr=""/>
          <p:cNvPicPr/>
          <p:nvPr/>
        </p:nvPicPr>
        <p:blipFill>
          <a:blip r:embed="rId1"/>
          <a:srcRect l="0" t="0" r="58705" b="0"/>
          <a:stretch/>
        </p:blipFill>
        <p:spPr>
          <a:xfrm>
            <a:off x="468360" y="476280"/>
            <a:ext cx="2192400" cy="122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Resultado de imagen para logotipo proaire"/>
          <p:cNvPicPr/>
          <p:nvPr/>
        </p:nvPicPr>
        <p:blipFill>
          <a:blip r:embed="rId2"/>
          <a:stretch/>
        </p:blipFill>
        <p:spPr>
          <a:xfrm>
            <a:off x="6516720" y="4941720"/>
            <a:ext cx="20462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4T15:04:52Z</dcterms:created>
  <dc:creator>Impacto</dc:creator>
  <dc:description/>
  <dc:language>en-US</dc:language>
  <cp:lastModifiedBy>Impacto</cp:lastModifiedBy>
  <dcterms:modified xsi:type="dcterms:W3CDTF">2020-01-29T15:14:54Z</dcterms:modified>
  <cp:revision>8</cp:revision>
  <dc:subject/>
  <dc:title>5. Comunicación y Educación Ambiental.</dc:title>
</cp:coreProperties>
</file>